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C34-AC7A-4CDE-BB87-D89EAE37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B7C-EF43-4073-95D2-9D8A5C1F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EAD-0006-48A9-98D9-4DC39276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CD1-FCC7-4BED-A696-8DFED326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5B64-8032-4B46-97A8-C287E60C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B108-BBEA-4099-AD92-93A2DCC3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38A2-25DD-4B5A-9544-A82AC154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A593-C081-4A74-BB04-8C135C58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DD79-FFAB-4B28-9D98-9803C474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4C0A-EC46-4A67-991F-F41B57AB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65D3-0420-4CF5-A627-14DA6FC7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B02-233D-4ACC-A497-F67D7751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8CD5-B98A-43B4-B282-93722135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04DA-85D5-4D5F-BD38-34AD1C3D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3DEE-E634-45FA-BB9E-A4D9F73F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E0D9-76D4-4B22-9A7B-37C06798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3250-F31B-4D6D-A80E-CB8D8BFF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915-A215-41BC-9CA5-BE637084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588-1398-4729-8249-654C1B10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1DD-B999-4608-BA67-A1159B6E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4B4-2996-410D-B1CE-F3564BC4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C60-CEAC-41F1-BBF6-844D68D5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5C0-4B2F-45A3-8A14-57CCED2F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E45-4B54-4F94-AF5F-9A9EE367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E31F-405B-4C04-8AEE-A3E0FFA0EB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CCC6-3F4C-4376-8875-B4DB778C23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.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 writing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aeologist Leonard wooley set out in 1922 to look for Ur a city mentioned in the bible, Ur was the origenal home of Abraham the father of the hebrew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bble:Gobble::Sip: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ball:Gridiron::baseball: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ad Emers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. 1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ere is the photo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6172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44:42Z</dcterms:created>
  <dc:creator>Angie</dc:creator>
  <dc:description/>
  <dc:language>en-US</dc:language>
  <cp:lastModifiedBy>VMS</cp:lastModifiedBy>
  <dcterms:modified xsi:type="dcterms:W3CDTF">2009-09-22T13:26:13Z</dcterms:modified>
  <cp:revision>4</cp:revision>
  <dc:subject/>
  <dc:title>English</dc:title>
</cp:coreProperties>
</file>